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4878C-58AA-415E-8B31-07678A588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0D302-C190-4813-9E35-570E6EC6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A04AF22-2ECA-45A0-814A-F3F5D954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749EE-BA97-453C-8A69-ADF9AF7B2C6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8D642-2095-4D54-B48A-D39319DF0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56488C-0349-4104-B122-38500EB06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8F3B2-1990-4F6D-9220-FBE688EB8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FE381A3-AF5A-4914-BA51-FABAA956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A9785-0632-4781-8B57-2460D7901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E9F0C7F-89D9-46FF-90EE-FEE297C2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4AF95-B134-43EC-B7C9-B219F0EBA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54F3AAA-12C6-4353-B362-D49E72CFD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7AAA5-B443-41C1-A9C9-3E4018608B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425DE-36AE-42EB-9A1F-79F33A7C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A1D1894-844C-43FC-86E4-CCCC8D05D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3F779-E1A8-4EEC-AE0E-0FCD6F3892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7A4085-E9D0-453D-B875-FDCC7B09F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8E375E4-0D31-4ABB-8536-ECBFF3690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9BEF4-C1D9-4CE6-B0DB-35E5603CD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9F560A8-C189-4B5E-B135-2EB0C0375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29BA0-39F0-4131-B6C3-DDDC8EF4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6515039-0800-4128-8B39-CAF56AA18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237EA-EBC1-447D-9775-49A4F016E5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1050A-D836-4160-9D75-639D97D9F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1B2E529-7941-4F0D-BDCE-8AF781001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CE1D-193E-4DBA-AF58-73AA7AE8D5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497A-AD60-47E9-BCCA-B32BA6F01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041080E-A924-4C4C-B357-DEBA3C28C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394E-3CAE-4A84-9F08-3335A42C9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3E846A3-C658-43EA-9EB3-D74882C8D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1A6F2-6930-41A6-98C0-8B0A0655D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7D7066A-B856-45A5-88BB-5327E2F9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4570-BFD9-4845-BD19-4EF07B33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C5EBC6F-24C9-47C1-AC05-1067DBCC7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38BBB-6E7F-449D-B62A-52084DAEBA3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BFE84-FD4F-4D61-8A95-DB0DDE0A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E4D1E41-32FF-4D17-992D-77F80D82F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spcAft>
                <a:spcPts val="300"/>
              </a:spcAft>
              <a:buClr>
                <a:srgbClr val="4f81bd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5CD13-58D9-4702-B627-1A1D4A603E1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9ACF2-9F4D-4AE7-A9E0-E09278A09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1594067-4A96-41DE-8E9F-E345FA3E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08F8A-4F8D-4A1A-9A97-DFE9550B8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D2FF58D-B72E-4BAE-AA85-8533E3F1D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8BCD5-C2B5-4361-8379-700D16739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7DA1809-8834-44D1-AA7D-74FB18B01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D9F51-D6F1-4410-95C4-340BCA723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7FB7893-94D1-4466-BA7B-01D6254CC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5957-9B6A-45D0-A93E-BCBEB52E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B1958E1-803F-4718-AE02-8070B86B0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707BF-8ECF-4200-B91B-FC4D77B64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32DA88C-55AD-4A72-BC91-38D3EA15B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B4911-921B-4E93-BF65-2AEBDC95A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D389533-0095-443C-AEDF-E928268C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20C55-B3DE-4DF3-8D5C-C72821F8B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527355B-34AC-4987-8616-F89692059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55BD3-1F09-4835-8AC6-550EAD5C75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CB4501C-99E9-4C22-8AFD-398C0DC1C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8B3E6-A004-4546-942A-241982BBB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44AC4576-79B9-4CE7-8581-C8310C2AB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10C43-E91F-49CF-BF93-4F169BB79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8145C85-E60B-41D4-93A2-2758E7A73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281FE-91D1-4B9F-B368-42E6FCAE8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EF10E98-0F75-4803-81AE-28E536E41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DE948-10F0-4B4A-8667-A6AB6D380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CEA5677F-474E-4F91-86B2-4F1948D8A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B8B18-E067-484F-82E1-133851AB1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B1AF7B9-19AA-40B5-BACB-0A77750C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54B0-D847-472F-BD27-A3691B4A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DA03891-9C33-4D85-8381-0E58A7365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C5DD-37FB-4952-9509-4BEDB47DB3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745BF91-06C5-48EE-BB75-E45EC42B9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9038-B7B6-4374-98F3-5B4E5328C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78F7BE08-B575-43B0-A378-2956F695B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2EA8C-7F15-4A10-8C8D-7F681B479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5FCFFB5-CA3F-4600-B3E5-23CF2CD2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0761-F412-41E7-86E8-CF8CDB871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D574E2CC-F4BC-4AAB-8332-FFECA4618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81C0F-40F6-4622-AF5E-CEF61289D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ADBEE0D6-0E08-4258-A6F8-1B25448E5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23E92-BD86-4AB2-B8A6-22DF96BE9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FB2268F0-CE4C-4132-AF06-993C04D28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CEDF7-C792-4414-BB18-59BAA0377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3A100B6F-C53D-4818-92B2-DB9CB8C0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24AA6-6404-4D5B-B41B-965A40473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F4D7E79-C663-414B-BC15-5B0ADF5D6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6B8FC-AE6B-4755-8B24-2F7A2964C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245FAF8-5A02-4938-AA3A-CCCD0BFE9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755C5-E9B2-49BD-9C17-16677856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7E79C6D-E630-4F32-A3F5-D0B293591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03A2F-7CF0-47D0-9DFA-DF14609350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BF21D8C0-5497-47E9-8882-7C2F9ECFF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FCB5-AEC3-4CA5-9D1E-9F4B33851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9510FBD5-555E-4DC2-999F-61144D7DD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36035-E80C-4FBE-8BD9-82755EC8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0255EEC3-1CCB-4ACD-90DF-58DFC5CBC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EEB8BC-F17F-43CD-9D7B-30750AAAF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8ABCDFC-CE0A-4EE1-9787-908307DFD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EBA5D-8C6C-4935-9D7F-C37B0646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2F5D54C5-6373-45BB-A8BC-A4AC7DB2B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1D176-057A-47D4-8D29-B492CA277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E90BB8E5-5BB9-4EBF-945C-BAD0A53B0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B112-46B3-49E7-A26E-4D5D913E4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8627DD84-BD48-4BF1-BF6B-64C6C9A06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D4CC8-6AF3-4034-BE95-F22A5498B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967DCD5-2953-42B6-84FB-E65A8B466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E57E-DE26-49B3-A83D-14F3866A1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6D0F7717-0476-4BFB-A1C6-38894ABB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1EB13-6740-40B3-9217-B591ACAF4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09520" indent="-209520" algn="r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09520"/>
                <a:tab algn="l" pos="666720"/>
                <a:tab algn="l" pos="1123920"/>
                <a:tab algn="l" pos="1581120"/>
                <a:tab algn="l" pos="2038320"/>
                <a:tab algn="l" pos="2495520"/>
                <a:tab algn="l" pos="2952720"/>
                <a:tab algn="l" pos="3409920"/>
                <a:tab algn="l" pos="3867120"/>
                <a:tab algn="l" pos="4324320"/>
                <a:tab algn="l" pos="4781520"/>
                <a:tab algn="l" pos="5238720"/>
                <a:tab algn="l" pos="5695920"/>
                <a:tab algn="l" pos="6153120"/>
                <a:tab algn="l" pos="6610320"/>
                <a:tab algn="l" pos="7067520"/>
                <a:tab algn="l" pos="7524720"/>
                <a:tab algn="l" pos="7981920"/>
                <a:tab algn="l" pos="8439120"/>
                <a:tab algn="l" pos="8896320"/>
                <a:tab algn="l" pos="9353520"/>
                <a:tab algn="l" pos="9601200"/>
                <a:tab algn="l" pos="10058400"/>
                <a:tab algn="l" pos="10515600"/>
              </a:tabLst>
            </a:pPr>
            <a:fld id="{1D2E513E-652B-4C82-8CEB-37E2BDF0D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DACC9D5A-B373-45EE-BF21-3B5C1A1077B9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1AA0824A-48F7-4070-B2A2-EDE31FAD354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" name="Picture 2" descr=""/>
          <p:cNvPicPr/>
          <p:nvPr/>
        </p:nvPicPr>
        <p:blipFill>
          <a:blip r:embed="rId2"/>
          <a:stretch/>
        </p:blipFill>
        <p:spPr>
          <a:xfrm>
            <a:off x="7596360" y="33336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4920" cy="11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20FC2D7A-D336-4B4D-B203-37FD197707B7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85080" y="1890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456B7979-10C7-4E5A-BA75-F6733FD6C05D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33153" t="14477" r="33707" b="0"/>
          <a:stretch/>
        </p:blipFill>
        <p:spPr>
          <a:xfrm>
            <a:off x="7885080" y="189000"/>
            <a:ext cx="8622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E3E4C209-92EC-4149-AE40-2DC9F8F1F7C4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457200" y="1341360"/>
            <a:ext cx="8143920" cy="180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2"/>
          <a:stretch/>
        </p:blipFill>
        <p:spPr>
          <a:xfrm>
            <a:off x="7704000" y="120600"/>
            <a:ext cx="89712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c2c84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c2c8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0" y="65689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ctr" pos="4471920"/>
                <a:tab algn="r" pos="8691480"/>
                <a:tab algn="l" pos="9144000"/>
                <a:tab algn="l" pos="10058400"/>
                <a:tab algn="l" pos="10515600"/>
              </a:tabLst>
            </a:pP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	</a:t>
            </a:r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- </a:t>
            </a:r>
            <a:fld id="{B048A7AD-8ED2-44CD-92E6-069E3D8328B8}" type="slidenum">
              <a:rPr b="1" lang="de-DE" sz="800" spc="-1" strike="noStrike">
                <a:solidFill>
                  <a:srgbClr val="f0000c"/>
                </a:solidFill>
                <a:latin typeface="Verdana"/>
              </a:rPr>
              <a:t>&lt;number&gt;</a:t>
            </a:fld>
            <a:r>
              <a:rPr b="1" lang="de-DE" sz="1000" spc="-1" strike="noStrike">
                <a:solidFill>
                  <a:srgbClr val="f0000c"/>
                </a:solidFill>
                <a:latin typeface="Verdana"/>
              </a:rPr>
              <a:t> -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7956720" y="115920"/>
            <a:ext cx="896760" cy="122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"/>
          <p:cNvSpPr/>
          <p:nvPr/>
        </p:nvSpPr>
        <p:spPr>
          <a:xfrm>
            <a:off x="152280" y="6248520"/>
            <a:ext cx="3276720" cy="53316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1160" y="4254480"/>
            <a:ext cx="9136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ocent Dr. Igor Siman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52280" y="0"/>
            <a:ext cx="8928360" cy="2205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340000" y="4437000"/>
            <a:ext cx="2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-61920" y="2422440"/>
            <a:ext cx="91360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Medical Facult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hysical medicine and rehabili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" descr=""/>
          <p:cNvPicPr/>
          <p:nvPr/>
        </p:nvPicPr>
        <p:blipFill>
          <a:blip r:embed="rId1"/>
          <a:stretch/>
        </p:blipFill>
        <p:spPr>
          <a:xfrm>
            <a:off x="3780000" y="222120"/>
            <a:ext cx="1584000" cy="205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ochromic anem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fections of the respiratory trac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; Acne vulgaris; Е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zem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uberculosis of the bo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joints, skin (quiet forms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hitis and osteomalacia; Osteopor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generative rheumatic diseas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ions of the peripheral motor neur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egetative disorders etc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ONTRAINDICATIONS FOR 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ung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itions after cerebrovascular insul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dermat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HROM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Text Box 2" descr=""/>
          <p:cNvPicPr/>
          <p:nvPr/>
        </p:nvPicPr>
        <p:blipFill>
          <a:blip r:embed="rId1"/>
          <a:stretch/>
        </p:blipFill>
        <p:spPr>
          <a:xfrm>
            <a:off x="384120" y="1481040"/>
            <a:ext cx="8442360" cy="49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Chrom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457200" y="1484280"/>
            <a:ext cx="82915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25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Verdana"/>
              </a:rPr>
              <a:t>COLD COLORS</a:t>
            </a: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blue, velvet and green) have 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dative effec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Blue color</a:t>
            </a:r>
            <a:r>
              <a:rPr b="1" lang="de-DE" sz="2200" spc="-1" strike="noStrike">
                <a:solidFill>
                  <a:srgbClr val="3667ed"/>
                </a:solidFill>
                <a:latin typeface="Verdana"/>
                <a:ea typeface="Microsoft YaHe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for color neutralization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icterus neonatorum)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; improves motor-coordinative processes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520018"/>
                </a:solidFill>
                <a:latin typeface="Verdana"/>
                <a:ea typeface="Microsoft YaHei"/>
              </a:rPr>
              <a:t>Velvet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lows the breathing rhythm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but deepens and increases ventilation capacity;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Verdana"/>
                <a:ea typeface="Microsoft YaHei"/>
              </a:rPr>
              <a:t>Green color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as a calming effect and improves anabolic proces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Penetration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0,1-0,5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m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292" name="AutoShape 4"/>
            <p:cNvCxnSpPr/>
            <p:nvPr/>
          </p:nvCxnSpPr>
          <p:spPr>
            <a:xfrm>
              <a:off x="538200" y="21315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293" name="AutoShape 5"/>
            <p:cNvCxnSpPr/>
            <p:nvPr/>
          </p:nvCxnSpPr>
          <p:spPr>
            <a:xfrm>
              <a:off x="538200" y="292464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294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Text Box 10"/>
            <p:cNvSpPr/>
            <p:nvPr/>
          </p:nvSpPr>
          <p:spPr>
            <a:xfrm>
              <a:off x="396288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280 - 315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5547240" y="1773360"/>
              <a:ext cx="1198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315 - 3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2385360" y="1773360"/>
              <a:ext cx="1245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3,6 - 28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Text Box 13"/>
            <p:cNvSpPr/>
            <p:nvPr/>
          </p:nvSpPr>
          <p:spPr>
            <a:xfrm>
              <a:off x="593280" y="3069360"/>
              <a:ext cx="805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Х - 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Text Box 14"/>
            <p:cNvSpPr/>
            <p:nvPr/>
          </p:nvSpPr>
          <p:spPr>
            <a:xfrm>
              <a:off x="727992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RAY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Text Box 15"/>
            <p:cNvSpPr/>
            <p:nvPr/>
          </p:nvSpPr>
          <p:spPr>
            <a:xfrm>
              <a:off x="4220640" y="2364120"/>
              <a:ext cx="5770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4" name="Text Box 16"/>
            <p:cNvSpPr/>
            <p:nvPr/>
          </p:nvSpPr>
          <p:spPr>
            <a:xfrm>
              <a:off x="5902200" y="2364120"/>
              <a:ext cx="579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5" name="Text Box 17"/>
            <p:cNvSpPr/>
            <p:nvPr/>
          </p:nvSpPr>
          <p:spPr>
            <a:xfrm>
              <a:off x="2655360" y="2364120"/>
              <a:ext cx="5709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UV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ransition of UV rays through atmosphe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7200" y="1484280"/>
            <a:ext cx="50594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s almost complete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 and by atmosphere oxygen (О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B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great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 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UV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diation reaches great amounts in the earth’s surface, because it i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orly absorb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 the ozone laye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Sources of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tifici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therm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- are not used in therap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luminisc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– quartz lamps with a mercury ar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QUARTZ LAM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4572000" y="2060640"/>
            <a:ext cx="3816360" cy="36878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2"/>
          <a:srcRect l="47903" t="-418" r="0" b="0"/>
          <a:stretch/>
        </p:blipFill>
        <p:spPr>
          <a:xfrm>
            <a:off x="826920" y="1916280"/>
            <a:ext cx="25639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BASIC TER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28760" y="1357200"/>
            <a:ext cx="84358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THERAPY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use of the light energy of the Sun or artificial sources of ligh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belongs to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lectromagnetic spectru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onsists of the particle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hotons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ize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the light quantum depends 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ght quantum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Е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nck’s constant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=6,626 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-34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J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Verdana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of light travelling through a vacuum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300.000km/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714240" y="3500280"/>
            <a:ext cx="754092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412920" y="63360"/>
            <a:ext cx="69944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en-GB" sz="2200" spc="-1" strike="noStrike">
                <a:solidFill>
                  <a:srgbClr val="f0000c"/>
                </a:solidFill>
                <a:latin typeface="Verdana"/>
              </a:rPr>
              <a:t>BIOLOGICAL AND PHYSIOLOGICAL EFFECTS OF UV RADIATION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395280" y="1557360"/>
            <a:ext cx="8424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chemica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oking chemical reactions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hange of the atomic arrangement and 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Verdana"/>
              </a:rPr>
              <a:t>ratio in a molecule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otosinthesis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adicals are form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nzymes are activated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ease of biologically active material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histamin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etylcholine etc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toelectric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nge of the atomic balance by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mission of the electrons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ransition of colloids from the state of salt </a:t>
            </a: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g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naturation of proteins and inactivation of enzymes</a:t>
            </a:r>
            <a:r>
              <a:rPr b="0" lang="sr-C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luorescenc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ffect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pability of some substances to reemit the absorbed Е of UV radiation of one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de-DE" sz="2000" spc="-1" strike="noStrike">
                <a:solidFill>
                  <a:srgbClr val="000000"/>
                </a:solidFill>
                <a:latin typeface="Verdana"/>
              </a:rPr>
              <a:t>365,5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Wood’s ligh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ll directions, but with high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for diagnostic purpo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f0000c"/>
                </a:solidFill>
                <a:uFillTx/>
                <a:latin typeface="Verdana"/>
              </a:rPr>
              <a:t>LOCAL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ythema– chemical; latent period 4-6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imulation of cell regeneration and epytheliz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due to increase in the number of the cell divisions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163440" indent="-163440">
              <a:lnSpc>
                <a:spcPct val="15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163440"/>
                <a:tab algn="l" pos="620640"/>
                <a:tab algn="l" pos="1077840"/>
                <a:tab algn="l" pos="1535040"/>
                <a:tab algn="l" pos="1992240"/>
                <a:tab algn="l" pos="2449440"/>
                <a:tab algn="l" pos="2906640"/>
                <a:tab algn="l" pos="3363840"/>
                <a:tab algn="l" pos="3821040"/>
                <a:tab algn="l" pos="4278240"/>
                <a:tab algn="l" pos="4735440"/>
                <a:tab algn="l" pos="5192640"/>
                <a:tab algn="l" pos="5649840"/>
                <a:tab algn="l" pos="6107040"/>
                <a:tab algn="l" pos="6564240"/>
                <a:tab algn="l" pos="7021440"/>
                <a:tab algn="l" pos="7478640"/>
                <a:tab algn="l" pos="7935840"/>
                <a:tab algn="l" pos="8393040"/>
                <a:tab algn="l" pos="8850240"/>
                <a:tab algn="l" pos="93074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actericide and bacteriosta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REFLEXIVE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REACTION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y occur via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cutivisceral reflex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path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secretion of gastric ju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intestinal peristal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elimination of water and electrolites through the kidne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reathing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blood pressur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otophobia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 u="sng">
                <a:solidFill>
                  <a:srgbClr val="f0000c"/>
                </a:solidFill>
                <a:uFillTx/>
                <a:latin typeface="Verdana"/>
              </a:rPr>
              <a:t>GENERAL</a:t>
            </a: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 EFFECTS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250920" y="1268280"/>
            <a:ext cx="83613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Consequences of </a:t>
            </a:r>
            <a:r>
              <a:rPr b="1" lang="sr-CS" sz="2400" spc="-1" strike="noStrike">
                <a:solidFill>
                  <a:srgbClr val="000000"/>
                </a:solidFill>
                <a:latin typeface="Verdana"/>
              </a:rPr>
              <a:t>photochemical effect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abol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Er and Hgb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umber of Le and immunit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version of provitamin D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vitamin D3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Ca and P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glycemia, cholestero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35160">
              <a:lnSpc>
                <a:spcPct val="100000"/>
              </a:lnSpc>
              <a:spcBef>
                <a:spcPts val="22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imulation of the function of the thyroid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, adrenal and sexual glan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HERAPEUTIC EFFECT OF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Troph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887400" indent="-3366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87400"/>
                <a:tab algn="l" pos="1344600"/>
                <a:tab algn="l" pos="1801800"/>
                <a:tab algn="l" pos="2259000"/>
                <a:tab algn="l" pos="2716200"/>
                <a:tab algn="l" pos="3173400"/>
                <a:tab algn="l" pos="3630600"/>
                <a:tab algn="l" pos="4087800"/>
                <a:tab algn="l" pos="4545000"/>
                <a:tab algn="l" pos="5002200"/>
                <a:tab algn="l" pos="5459400"/>
                <a:tab algn="l" pos="5916600"/>
                <a:tab algn="l" pos="6373800"/>
                <a:tab algn="l" pos="6831000"/>
                <a:tab algn="l" pos="7288200"/>
                <a:tab algn="l" pos="7745400"/>
                <a:tab algn="l" pos="8202600"/>
                <a:tab algn="l" pos="8659800"/>
                <a:tab algn="l" pos="9117000"/>
                <a:tab algn="l" pos="9574200"/>
                <a:tab algn="l" pos="100314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Improvement of regeneration (epithelization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VIDUAL SENSITIVITY TO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Ra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Body region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Physiological conditions (menses, pregnancy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Diseases (DM, albinism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800280" indent="-335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94428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OTOSENSITIZ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nd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bile colo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orphirin, thyroxin, gonadotropic hormones, adrenalin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, insuli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xogenou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heavy metal sal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penicillin, 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tetracycli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sulphonamides, rivanol, eosin, gold salts etc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360360" y="1432080"/>
            <a:ext cx="81439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 of individual and regional sensi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BIODOSI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s the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time interv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[min]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of radiation during which UV rays from a known source, from a certain distance, cause just perceptible erythema on the skin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minimal erythemal dos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iodosimeter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5 fiel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with 3 fields, by Prof. Rotovic and Prof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Milicevic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7104240" y="4098960"/>
            <a:ext cx="1000080" cy="1662120"/>
            <a:chOff x="7104240" y="4098960"/>
            <a:chExt cx="1000080" cy="1662120"/>
          </a:xfrm>
        </p:grpSpPr>
        <p:sp>
          <p:nvSpPr>
            <p:cNvPr id="330" name="Rectangle 4"/>
            <p:cNvSpPr/>
            <p:nvPr/>
          </p:nvSpPr>
          <p:spPr>
            <a:xfrm>
              <a:off x="7180200" y="4098960"/>
              <a:ext cx="924120" cy="16621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7304040" y="42418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7304040" y="476568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7304040" y="5251320"/>
              <a:ext cx="654120" cy="306360"/>
            </a:xfrm>
            <a:prstGeom prst="rect">
              <a:avLst/>
            </a:prstGeom>
            <a:solidFill>
              <a:srgbClr val="dddddd"/>
            </a:solidFill>
            <a:ln cap="sq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4" name="Text Box 8"/>
            <p:cNvSpPr/>
            <p:nvPr/>
          </p:nvSpPr>
          <p:spPr>
            <a:xfrm>
              <a:off x="7104240" y="4270320"/>
              <a:ext cx="59184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  <a:p>
              <a:pPr marL="92160" indent="-84240"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2160"/>
                  <a:tab algn="l" pos="549360"/>
                  <a:tab algn="l" pos="1006560"/>
                  <a:tab algn="l" pos="1463760"/>
                  <a:tab algn="l" pos="1920960"/>
                  <a:tab algn="l" pos="2378160"/>
                  <a:tab algn="l" pos="2835360"/>
                  <a:tab algn="l" pos="3292560"/>
                  <a:tab algn="l" pos="3749760"/>
                  <a:tab algn="l" pos="4206960"/>
                  <a:tab algn="l" pos="4664160"/>
                  <a:tab algn="l" pos="5121360"/>
                  <a:tab algn="l" pos="5578560"/>
                  <a:tab algn="l" pos="6035760"/>
                  <a:tab algn="l" pos="6492960"/>
                  <a:tab algn="l" pos="6950160"/>
                  <a:tab algn="l" pos="7407360"/>
                  <a:tab algn="l" pos="7864560"/>
                  <a:tab algn="l" pos="8321760"/>
                  <a:tab algn="l" pos="8778960"/>
                  <a:tab algn="l" pos="9236160"/>
                  <a:tab algn="l" pos="9601200"/>
                  <a:tab algn="l" pos="10058400"/>
                  <a:tab algn="l" pos="10515600"/>
                </a:tabLst>
              </a:pPr>
              <a:r>
                <a:rPr b="1" lang="sr-Latn-CS" sz="1200" spc="-1" strike="noStrike">
                  <a:solidFill>
                    <a:srgbClr val="4d4d4d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ETERMINI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4928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TERPRETATION OF BIODO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8" name="Group 2"/>
          <p:cNvGrpSpPr/>
          <p:nvPr/>
        </p:nvGrpSpPr>
        <p:grpSpPr>
          <a:xfrm>
            <a:off x="539640" y="1557360"/>
            <a:ext cx="7985160" cy="5032440"/>
            <a:chOff x="539640" y="1557360"/>
            <a:chExt cx="7985160" cy="5032440"/>
          </a:xfrm>
        </p:grpSpPr>
        <p:sp>
          <p:nvSpPr>
            <p:cNvPr id="339" name="Rectangle 3"/>
            <p:cNvSpPr/>
            <p:nvPr/>
          </p:nvSpPr>
          <p:spPr>
            <a:xfrm>
              <a:off x="539640" y="1557360"/>
              <a:ext cx="230112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Degree of erythema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0" name="Rectangle 4"/>
            <p:cNvSpPr/>
            <p:nvPr/>
          </p:nvSpPr>
          <p:spPr>
            <a:xfrm>
              <a:off x="2847240" y="1557360"/>
              <a:ext cx="3461400" cy="1141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Exposure time in 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6316920" y="1557360"/>
              <a:ext cx="2197800" cy="169488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Biodosis in </a:t>
              </a: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2847240" y="27079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3" name="Rectangle 7"/>
            <p:cNvSpPr/>
            <p:nvPr/>
          </p:nvSpPr>
          <p:spPr>
            <a:xfrm>
              <a:off x="400428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4" name="Rectangle 8"/>
            <p:cNvSpPr/>
            <p:nvPr/>
          </p:nvSpPr>
          <p:spPr>
            <a:xfrm>
              <a:off x="5158440" y="27079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5" name="Rectangle 9"/>
            <p:cNvSpPr/>
            <p:nvPr/>
          </p:nvSpPr>
          <p:spPr>
            <a:xfrm>
              <a:off x="539640" y="32616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6" name="Rectangle 10"/>
            <p:cNvSpPr/>
            <p:nvPr/>
          </p:nvSpPr>
          <p:spPr>
            <a:xfrm>
              <a:off x="2847240" y="326160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400428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5158440" y="326160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6316920" y="326160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539640" y="381420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1" name="Rectangle 15"/>
            <p:cNvSpPr/>
            <p:nvPr/>
          </p:nvSpPr>
          <p:spPr>
            <a:xfrm>
              <a:off x="2847240" y="381420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2" name="Rectangle 16"/>
            <p:cNvSpPr/>
            <p:nvPr/>
          </p:nvSpPr>
          <p:spPr>
            <a:xfrm>
              <a:off x="400428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3" name="Rectangle 17"/>
            <p:cNvSpPr/>
            <p:nvPr/>
          </p:nvSpPr>
          <p:spPr>
            <a:xfrm>
              <a:off x="5158440" y="381420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4" name="Rectangle 18"/>
            <p:cNvSpPr/>
            <p:nvPr/>
          </p:nvSpPr>
          <p:spPr>
            <a:xfrm>
              <a:off x="6316920" y="381420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0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5" name="Rectangle 19"/>
            <p:cNvSpPr/>
            <p:nvPr/>
          </p:nvSpPr>
          <p:spPr>
            <a:xfrm>
              <a:off x="539640" y="436788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6" name="Rectangle 20"/>
            <p:cNvSpPr/>
            <p:nvPr/>
          </p:nvSpPr>
          <p:spPr>
            <a:xfrm>
              <a:off x="2847240" y="4367880"/>
              <a:ext cx="114912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7" name="Rectangle 21"/>
            <p:cNvSpPr/>
            <p:nvPr/>
          </p:nvSpPr>
          <p:spPr>
            <a:xfrm>
              <a:off x="400428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8" name="Rectangle 22"/>
            <p:cNvSpPr/>
            <p:nvPr/>
          </p:nvSpPr>
          <p:spPr>
            <a:xfrm>
              <a:off x="5158440" y="4367880"/>
              <a:ext cx="115056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9" name="Rectangle 23"/>
            <p:cNvSpPr/>
            <p:nvPr/>
          </p:nvSpPr>
          <p:spPr>
            <a:xfrm>
              <a:off x="6316920" y="4367880"/>
              <a:ext cx="2197800" cy="54720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0" name="Rectangle 24"/>
            <p:cNvSpPr/>
            <p:nvPr/>
          </p:nvSpPr>
          <p:spPr>
            <a:xfrm>
              <a:off x="539640" y="492336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1" name="Rectangle 25"/>
            <p:cNvSpPr/>
            <p:nvPr/>
          </p:nvSpPr>
          <p:spPr>
            <a:xfrm>
              <a:off x="2847240" y="492336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2" name="Rectangle 26"/>
            <p:cNvSpPr/>
            <p:nvPr/>
          </p:nvSpPr>
          <p:spPr>
            <a:xfrm>
              <a:off x="400428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3" name="Rectangle 27"/>
            <p:cNvSpPr/>
            <p:nvPr/>
          </p:nvSpPr>
          <p:spPr>
            <a:xfrm>
              <a:off x="5158440" y="492336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+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4" name="Rectangle 28"/>
            <p:cNvSpPr/>
            <p:nvPr/>
          </p:nvSpPr>
          <p:spPr>
            <a:xfrm>
              <a:off x="6316920" y="492336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1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5" name="Rectangle 29"/>
            <p:cNvSpPr/>
            <p:nvPr/>
          </p:nvSpPr>
          <p:spPr>
            <a:xfrm>
              <a:off x="539640" y="5478480"/>
              <a:ext cx="2301120" cy="54756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Mild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6" name="Rectangle 30"/>
            <p:cNvSpPr/>
            <p:nvPr/>
          </p:nvSpPr>
          <p:spPr>
            <a:xfrm>
              <a:off x="2847240" y="5478480"/>
              <a:ext cx="114912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7" name="Rectangle 31"/>
            <p:cNvSpPr/>
            <p:nvPr/>
          </p:nvSpPr>
          <p:spPr>
            <a:xfrm>
              <a:off x="400428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8" name="Rectangle 32"/>
            <p:cNvSpPr/>
            <p:nvPr/>
          </p:nvSpPr>
          <p:spPr>
            <a:xfrm>
              <a:off x="5158440" y="5478480"/>
              <a:ext cx="115056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9" name="Rectangle 33"/>
            <p:cNvSpPr/>
            <p:nvPr/>
          </p:nvSpPr>
          <p:spPr>
            <a:xfrm>
              <a:off x="6316920" y="5478480"/>
              <a:ext cx="2197800" cy="547560"/>
            </a:xfrm>
            <a:prstGeom prst="rect">
              <a:avLst/>
            </a:prstGeom>
            <a:solidFill>
              <a:srgbClr val="fc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0" name="Rectangle 34"/>
            <p:cNvSpPr/>
            <p:nvPr/>
          </p:nvSpPr>
          <p:spPr>
            <a:xfrm>
              <a:off x="539640" y="6034320"/>
              <a:ext cx="2301120" cy="547200"/>
            </a:xfrm>
            <a:prstGeom prst="rect">
              <a:avLst/>
            </a:prstGeom>
            <a:solidFill>
              <a:srgbClr val="f000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ffffff"/>
                  </a:solidFill>
                  <a:latin typeface="Verdana"/>
                </a:rPr>
                <a:t>Severe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1" name="Rectangle 35"/>
            <p:cNvSpPr/>
            <p:nvPr/>
          </p:nvSpPr>
          <p:spPr>
            <a:xfrm>
              <a:off x="2847240" y="6034320"/>
              <a:ext cx="114912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2" name="Rectangle 36"/>
            <p:cNvSpPr/>
            <p:nvPr/>
          </p:nvSpPr>
          <p:spPr>
            <a:xfrm>
              <a:off x="400428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Rectangle 37"/>
            <p:cNvSpPr/>
            <p:nvPr/>
          </p:nvSpPr>
          <p:spPr>
            <a:xfrm>
              <a:off x="5158440" y="6034320"/>
              <a:ext cx="115056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Rectangle 38"/>
            <p:cNvSpPr/>
            <p:nvPr/>
          </p:nvSpPr>
          <p:spPr>
            <a:xfrm>
              <a:off x="6316920" y="6034320"/>
              <a:ext cx="2197800" cy="547200"/>
            </a:xfrm>
            <a:prstGeom prst="rect">
              <a:avLst/>
            </a:prstGeom>
            <a:solidFill>
              <a:srgbClr val="f9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0" bIns="0" anchor="t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Verdana"/>
                </a:rPr>
                <a:t>3,5</a:t>
              </a:r>
              <a:endParaRPr b="0" lang="en-US" sz="2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Line 39"/>
            <p:cNvSpPr/>
            <p:nvPr/>
          </p:nvSpPr>
          <p:spPr>
            <a:xfrm>
              <a:off x="284724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Line 40"/>
            <p:cNvSpPr/>
            <p:nvPr/>
          </p:nvSpPr>
          <p:spPr>
            <a:xfrm>
              <a:off x="284724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Line 41"/>
            <p:cNvSpPr/>
            <p:nvPr/>
          </p:nvSpPr>
          <p:spPr>
            <a:xfrm>
              <a:off x="284724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Line 42"/>
            <p:cNvSpPr/>
            <p:nvPr/>
          </p:nvSpPr>
          <p:spPr>
            <a:xfrm>
              <a:off x="400428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Line 43"/>
            <p:cNvSpPr/>
            <p:nvPr/>
          </p:nvSpPr>
          <p:spPr>
            <a:xfrm>
              <a:off x="5158440" y="2707920"/>
              <a:ext cx="0" cy="38736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Line 44"/>
            <p:cNvSpPr/>
            <p:nvPr/>
          </p:nvSpPr>
          <p:spPr>
            <a:xfrm>
              <a:off x="6316920" y="1557360"/>
              <a:ext cx="0" cy="114120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Line 45"/>
            <p:cNvSpPr/>
            <p:nvPr/>
          </p:nvSpPr>
          <p:spPr>
            <a:xfrm>
              <a:off x="6316920" y="2707920"/>
              <a:ext cx="0" cy="54720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Line 46"/>
            <p:cNvSpPr/>
            <p:nvPr/>
          </p:nvSpPr>
          <p:spPr>
            <a:xfrm>
              <a:off x="6316920" y="3261600"/>
              <a:ext cx="0" cy="3318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2847240" y="2707920"/>
              <a:ext cx="34614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539640" y="3261600"/>
              <a:ext cx="23011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2847240" y="3261600"/>
              <a:ext cx="34614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6" name="Line 50"/>
            <p:cNvSpPr/>
            <p:nvPr/>
          </p:nvSpPr>
          <p:spPr>
            <a:xfrm>
              <a:off x="6316920" y="3261600"/>
              <a:ext cx="21978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7" name="Line 51"/>
            <p:cNvSpPr/>
            <p:nvPr/>
          </p:nvSpPr>
          <p:spPr>
            <a:xfrm>
              <a:off x="539640" y="38142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8" name="Line 52"/>
            <p:cNvSpPr/>
            <p:nvPr/>
          </p:nvSpPr>
          <p:spPr>
            <a:xfrm>
              <a:off x="539640" y="43678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9" name="Line 53"/>
            <p:cNvSpPr/>
            <p:nvPr/>
          </p:nvSpPr>
          <p:spPr>
            <a:xfrm>
              <a:off x="539640" y="4923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0" name="Line 54"/>
            <p:cNvSpPr/>
            <p:nvPr/>
          </p:nvSpPr>
          <p:spPr>
            <a:xfrm>
              <a:off x="539640" y="547848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1" name="Line 55"/>
            <p:cNvSpPr/>
            <p:nvPr/>
          </p:nvSpPr>
          <p:spPr>
            <a:xfrm>
              <a:off x="539640" y="603432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2" name="Line 56"/>
            <p:cNvSpPr/>
            <p:nvPr/>
          </p:nvSpPr>
          <p:spPr>
            <a:xfrm>
              <a:off x="53964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3" name="Line 57"/>
            <p:cNvSpPr/>
            <p:nvPr/>
          </p:nvSpPr>
          <p:spPr>
            <a:xfrm>
              <a:off x="8524800" y="1557360"/>
              <a:ext cx="0" cy="50245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4" name="Line 58"/>
            <p:cNvSpPr/>
            <p:nvPr/>
          </p:nvSpPr>
          <p:spPr>
            <a:xfrm>
              <a:off x="539640" y="155736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5" name="Line 59"/>
            <p:cNvSpPr/>
            <p:nvPr/>
          </p:nvSpPr>
          <p:spPr>
            <a:xfrm>
              <a:off x="539640" y="6589800"/>
              <a:ext cx="797724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EM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SPECTRUM ACCORDING TO THE WAVELENGTH OF ACTIVE</a:t>
            </a:r>
            <a:r>
              <a:rPr b="1" lang="de-DE" sz="2600" spc="-1" strike="noStrike">
                <a:solidFill>
                  <a:srgbClr val="f0000c"/>
                </a:solidFill>
                <a:latin typeface="Verdana"/>
              </a:rPr>
              <a:t> ЕМ </a:t>
            </a:r>
            <a:r>
              <a:rPr b="1" lang="en-US" sz="2600" spc="-1" strike="noStrike">
                <a:solidFill>
                  <a:srgbClr val="f0000c"/>
                </a:solidFill>
                <a:latin typeface="Verdana"/>
              </a:rPr>
              <a:t>RAY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05440" cy="381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3"/>
          <p:cNvSpPr/>
          <p:nvPr/>
        </p:nvSpPr>
        <p:spPr>
          <a:xfrm>
            <a:off x="2530080" y="2013120"/>
            <a:ext cx="270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282480" y="1969920"/>
            <a:ext cx="38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V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1670400" y="1890720"/>
            <a:ext cx="261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ᵞ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5075280" y="1984320"/>
            <a:ext cx="3286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C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622840" y="1984320"/>
            <a:ext cx="5922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cr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6263280" y="1969920"/>
            <a:ext cx="997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diowave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UV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ub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in children ⅛ of biodosis, in adults ¼, 1/3 or ½ of biodosi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just perceptible redne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se 1-3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ypererythem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3-5 biodose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intensive erythema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, bulla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rely applied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(skin diseases with  thickened epidermal stratu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UV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ratoconjunctivitis ("snow blindness") when looking directly at the source of radiation;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earing protective glas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hen radiation exposure is overdo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ancerous and cancerous skin lesions (important for cosmetology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GENER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econvalescen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Anem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alac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Rach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Osteomyelit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 for LOCAL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applic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457200" y="1413000"/>
            <a:ext cx="84358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kin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 diseases - alopecia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sorias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cubitu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eur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- neuralgia, neurit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 cervical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, lumbar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S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heumat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degenerative rheumatism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extraarticular rheumatism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Verdana"/>
              </a:rPr>
              <a:t>Orthopedics –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 conditions after bone fractures, soft-tissue injuri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ynecological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eases – adnexitis, dysmenorrhe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ascular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urgery – vascular-based torpid wound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lcus cruri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8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Ophthalmology 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- blepharitis, trachom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1628640"/>
            <a:ext cx="81439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pulmonary tuberculos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yperthyroid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abet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sychiatric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vanced cachexia 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</a:rPr>
              <a:t>Photogenic skin diseases - pellagra, lupu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l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alignant skin tum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Roentgen dermat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ypervitaminosis B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Verdana"/>
              </a:rPr>
              <a:t>INFRARED RA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FRARED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457200" y="3000240"/>
            <a:ext cx="814392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hort IR rays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770 - 1500 n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Long I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ra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1500 n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96840" indent="-33804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96840"/>
                <a:tab algn="l" pos="1454040"/>
                <a:tab algn="l" pos="1911240"/>
                <a:tab algn="l" pos="2368440"/>
                <a:tab algn="l" pos="2825640"/>
                <a:tab algn="l" pos="3282840"/>
                <a:tab algn="l" pos="3740040"/>
                <a:tab algn="l" pos="4197240"/>
                <a:tab algn="l" pos="4654440"/>
                <a:tab algn="l" pos="5111640"/>
                <a:tab algn="l" pos="5568840"/>
                <a:tab algn="l" pos="6026040"/>
                <a:tab algn="l" pos="6483240"/>
                <a:tab algn="l" pos="6940440"/>
                <a:tab algn="l" pos="7397640"/>
                <a:tab algn="l" pos="7854840"/>
                <a:tab algn="l" pos="8312040"/>
                <a:tab algn="l" pos="8769240"/>
                <a:tab algn="l" pos="9226440"/>
                <a:tab algn="l" pos="9683640"/>
                <a:tab algn="l" pos="1014084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Verdana"/>
              </a:rPr>
              <a:t>Penetration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0,5-10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2" name="Group 3"/>
          <p:cNvGrpSpPr/>
          <p:nvPr/>
        </p:nvGrpSpPr>
        <p:grpSpPr>
          <a:xfrm>
            <a:off x="538200" y="1773360"/>
            <a:ext cx="8058600" cy="1906560"/>
            <a:chOff x="538200" y="1773360"/>
            <a:chExt cx="8058600" cy="1906560"/>
          </a:xfrm>
        </p:grpSpPr>
        <p:cxnSp>
          <p:nvCxnSpPr>
            <p:cNvPr id="413" name="AutoShape 4"/>
            <p:cNvCxnSpPr/>
            <p:nvPr/>
          </p:nvCxnSpPr>
          <p:spPr>
            <a:xfrm>
              <a:off x="538200" y="213336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cxnSp>
          <p:nvCxnSpPr>
            <p:cNvPr id="414" name="AutoShape 5"/>
            <p:cNvCxnSpPr/>
            <p:nvPr/>
          </p:nvCxnSpPr>
          <p:spPr>
            <a:xfrm>
              <a:off x="538200" y="2926080"/>
              <a:ext cx="8058960" cy="108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headEnd len="med" type="triangle" w="lg"/>
              <a:tailEnd len="med" type="triangle" w="lg"/>
            </a:ln>
          </p:spPr>
        </p:cxnSp>
        <p:sp>
          <p:nvSpPr>
            <p:cNvPr id="415" name="Line 6"/>
            <p:cNvSpPr/>
            <p:nvPr/>
          </p:nvSpPr>
          <p:spPr>
            <a:xfrm>
              <a:off x="214632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6" name="Line 7"/>
            <p:cNvSpPr/>
            <p:nvPr/>
          </p:nvSpPr>
          <p:spPr>
            <a:xfrm>
              <a:off x="374328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7" name="Line 8"/>
            <p:cNvSpPr/>
            <p:nvPr/>
          </p:nvSpPr>
          <p:spPr>
            <a:xfrm>
              <a:off x="533700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6935760" y="2133720"/>
              <a:ext cx="0" cy="784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Aft>
                  <a:spcPts val="45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9" name="Text Box 10"/>
            <p:cNvSpPr/>
            <p:nvPr/>
          </p:nvSpPr>
          <p:spPr>
            <a:xfrm>
              <a:off x="3985920" y="1773360"/>
              <a:ext cx="13878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1500 -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1"/>
            <p:cNvSpPr/>
            <p:nvPr/>
          </p:nvSpPr>
          <p:spPr>
            <a:xfrm>
              <a:off x="5712480" y="1785960"/>
              <a:ext cx="10080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30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2390400" y="1773360"/>
              <a:ext cx="129312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770 - 1500 nm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577440" y="3069360"/>
              <a:ext cx="767520" cy="6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VISIBLE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LIGHT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7283880" y="3069360"/>
              <a:ext cx="125820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Verdana"/>
                </a:rPr>
                <a:t>MICROWAVES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4229640" y="2364120"/>
              <a:ext cx="5176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B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5910840" y="2364120"/>
              <a:ext cx="511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C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Text Box 17"/>
            <p:cNvSpPr/>
            <p:nvPr/>
          </p:nvSpPr>
          <p:spPr>
            <a:xfrm>
              <a:off x="2664720" y="2364120"/>
              <a:ext cx="5205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spcAft>
                  <a:spcPts val="326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IR-А</a:t>
              </a:r>
              <a:endParaRPr b="0" lang="en-US" sz="13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OURCES OF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Natural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source is sunligh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Artificial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urce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„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ollux"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lamp</a:t>
            </a: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eater reflector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emission of long wav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Light baths 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full, semi, 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RTIFICIAL SOURCES OF </a:t>
            </a: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3924360" y="1773360"/>
            <a:ext cx="3600360" cy="475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3" descr=""/>
          <p:cNvPicPr/>
          <p:nvPr/>
        </p:nvPicPr>
        <p:blipFill>
          <a:blip r:embed="rId2"/>
          <a:stretch/>
        </p:blipFill>
        <p:spPr>
          <a:xfrm>
            <a:off x="755640" y="2276640"/>
            <a:ext cx="33847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TYPES OF PHOT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otherap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use of natural sunligh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romotherap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ction of certain colors from the visible spectr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ltraviolet rays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UV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rared rays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sr-Latn-CS" sz="2400" spc="-1" strike="noStrike">
                <a:solidFill>
                  <a:srgbClr val="000000"/>
                </a:solidFill>
                <a:latin typeface="Verdana"/>
              </a:rPr>
              <a:t>IR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y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199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erotherap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LAS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Light Amplification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Stimulated Emission of Radiatio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PHYSIOLOGICAL EFFECT OF IR RADIATI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 of the photon of IR ra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olecular excitation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 of the local tissue 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f0000c"/>
                </a:solidFill>
                <a:latin typeface="Verdana"/>
              </a:rPr>
              <a:t>Local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0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erythem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(without latent period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thermal, inhomogenous</a:t>
            </a:r>
            <a:r>
              <a:rPr b="0" lang="sr-Latn-C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Microsoft YaHei"/>
              </a:rPr>
              <a:t> unclearly demarcated, more intense along the capillaries, short-lasting, lost completely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pigment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Reflexive reac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Vasodilation involving also deeper tissu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(via cutivisceral Rf, via Head zone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Consensual re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General reaction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he 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tº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sweat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breath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heart ra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Microsoft YaHei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THERAPEUTIC EFFECT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nalge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edematous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pasmolitic effe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2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ophic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gran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9748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11888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SYNERGISM AND ANTAGONISM OF IR AND UV RAY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ynerg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IR rays applied simulateneously or before 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increase the effec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UV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tago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IR rays applied after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V rays </a:t>
            </a:r>
            <a:r>
              <a:rPr b="1" lang="en-US" sz="2400" spc="-1" strike="noStrike">
                <a:solidFill>
                  <a:srgbClr val="f0000c"/>
                </a:solidFill>
                <a:latin typeface="Verdana"/>
              </a:rPr>
              <a:t>decrease the effect of U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R radiation from the lamp is the most efficient method of burn prevention, if UV radiation is overdosed (if used before the develop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ythema!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 AND 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dependent (rarely) or introductory (more common) proced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pidermal defects are not a contraind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he patient wears protective glasses (catarac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ing </a:t>
            </a:r>
            <a:r>
              <a:rPr b="1" lang="de-DE" sz="2400" spc="-1" strike="noStrike">
                <a:solidFill>
                  <a:srgbClr val="ff0000"/>
                </a:solidFill>
                <a:latin typeface="Verdana"/>
              </a:rPr>
              <a:t>according to subjective feel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xposure time 5-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(20)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min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ries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-15 days,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 pause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10 d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74680" y="457200"/>
            <a:ext cx="87328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APPLICATION TECHNIQUE 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457200" y="1584360"/>
            <a:ext cx="83628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OSE 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radiation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intensity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x </a:t>
            </a:r>
            <a:r>
              <a:rPr b="1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cos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Verdana"/>
              </a:rPr>
              <a:t> of the angle of incidence x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sr-Latn-R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uration time</a:t>
            </a:r>
            <a:r>
              <a:rPr b="1" lang="sr-Latn-RS" sz="1800" spc="-1" strike="noStrike" u="sng">
                <a:solidFill>
                  <a:srgbClr val="ff0000"/>
                </a:solidFill>
                <a:uFillTx/>
                <a:latin typeface="Verdana"/>
              </a:rPr>
              <a:t> </a:t>
            </a:r>
            <a:r>
              <a:rPr b="1" lang="de-DE" sz="1800" spc="-1" strike="noStrike" u="sng">
                <a:solidFill>
                  <a:srgbClr val="ff0000"/>
                </a:solidFill>
                <a:uFillTx/>
                <a:latin typeface="Verdana"/>
              </a:rPr>
              <a:t>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source</a:t>
            </a:r>
            <a:r>
              <a:rPr b="0" lang="de-DE" sz="1800" spc="-1" strike="noStrike" baseline="33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LOCAL</a:t>
            </a:r>
            <a:r>
              <a:rPr b="0" lang="de-DE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smaller distanc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GENERAL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the source is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at a greater distance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 from the bod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rapping after the therapy (an independent procedure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12760" indent="-212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12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JURIES CAUSED BY IR EFFE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during long eye exposure to IR radiation;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rotective glass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voding looking directly at the sou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ur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Hypesthesis in neurological disea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79560" indent="-27468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nadequate lamp handling (direct contact with the ski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Introduction to e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ctrostimulation, stable galvanization, electroforesis,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traction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, kryotherapy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Lesions of the PMN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yalgia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euralg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Post-traumatic conditions of the soft tissues 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(after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 48 h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egenerative and extra-articular rheumat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kin diseases (acne, furunculi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fungal diseas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herpes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ubitus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ain after a tooth extraction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150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Frontal and maxillary sinusiti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f0000c"/>
                </a:solidFill>
                <a:latin typeface="Verdana"/>
              </a:rPr>
              <a:t>CONTRAINDIC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Acute skin and joint inflam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tuberculo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clusive arterial diseas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n anesthesia to thermal stimu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24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Eczema, dermatitis..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57200" y="9216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graph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 photograph registration of the skin temperature - thermogram. It indicates the state of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Verdana"/>
              </a:rPr>
              <a:t>circulation in the epidermi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— it depicts the condition of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аrterial blood vessels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flo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9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Thermovision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— provides d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stribution of surface body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temperature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in a short tim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2563920" y="3429000"/>
            <a:ext cx="434340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1"/>
          <p:cNvSpPr/>
          <p:nvPr/>
        </p:nvSpPr>
        <p:spPr>
          <a:xfrm>
            <a:off x="531720" y="2924280"/>
            <a:ext cx="836136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ELIOTHERAP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Line 2"/>
          <p:cNvSpPr/>
          <p:nvPr/>
        </p:nvSpPr>
        <p:spPr>
          <a:xfrm>
            <a:off x="531720" y="4292640"/>
            <a:ext cx="8143920" cy="1440"/>
          </a:xfrm>
          <a:prstGeom prst="line">
            <a:avLst/>
          </a:prstGeom>
          <a:ln cap="sq" w="38160">
            <a:solidFill>
              <a:srgbClr val="f0000c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20000"/>
              </a:lnSpc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0000c"/>
                </a:solidFill>
                <a:latin typeface="Verdana"/>
              </a:rPr>
              <a:t>DIAGNOSTIC USE OF IR RADIA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1844640"/>
            <a:ext cx="81439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5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frared photograph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Short IR rays directed at the skin show the state of the </a:t>
            </a:r>
            <a:r>
              <a:rPr b="1" i="1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venous system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(arterial blood vessels are not seen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29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  <a:ea typeface="Microsoft YaHei"/>
              </a:rPr>
              <a:t>It is used for the diagnostics of the venous circulation in the mammary glands, circulation during gravidity and post-partum, venous circulation in portal hypertension..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HELIOTHERAP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95280" y="1052640"/>
            <a:ext cx="8280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 contain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5-5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0% of IC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4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% of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visible light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1-3% of UV an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2% of other ray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effec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the Sun depends on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e s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Part of the day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 the zenith it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intensity is about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times stronge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bove-sea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Thickness of the air lay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Cloudin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120" indent="-277920">
              <a:lnSpc>
                <a:spcPct val="100000"/>
              </a:lnSpc>
              <a:spcBef>
                <a:spcPts val="451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Air pollution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dust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smoke, soot, water steam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 other particles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Microsoft YaHe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OTOSENSITIV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457200" y="1484280"/>
            <a:ext cx="81439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c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kin of the chest, bac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abdomen and flexor sides of the extremiti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ividual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sitivity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nd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ysiological condition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gnanc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breast fee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igmentat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sease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inis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M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ce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photosensitizers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ody region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PHYSIOLOGICAL SUN EFF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457200" y="1413000"/>
            <a:ext cx="81439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4800" indent="-334800">
              <a:lnSpc>
                <a:spcPct val="10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immunobiological reaction of the organis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gesic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ment of the skin turgor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d exchange of gasse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lance of the vegetative nervous system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crease of the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</a:rPr>
              <a:t>Hgb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level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lood elem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itamin D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50000"/>
              </a:lnSpc>
              <a:spcBef>
                <a:spcPts val="550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rmalization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a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the tissues etc.</a:t>
            </a:r>
            <a:r>
              <a:rPr b="0" lang="sr-Latn-C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457200" y="274680"/>
            <a:ext cx="706752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0000c"/>
                </a:solidFill>
                <a:latin typeface="Verdana"/>
              </a:rPr>
              <a:t>DO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250920" y="1484280"/>
            <a:ext cx="35290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bathing scheme by Rolli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3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buClr>
                <a:srgbClr val="f0000c"/>
              </a:buClr>
              <a:buFont typeface="Wingdings" charset="2"/>
              <a:buChar char="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de effect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ratoconjunctivit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nstrok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499"/>
              </a:spcBef>
              <a:buClr>
                <a:srgbClr val="f0000c"/>
              </a:buClr>
              <a:buFont typeface="Wingdings" charset="2"/>
              <a:buChar char=""/>
              <a:tabLst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cancerous and cancerous le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4800" indent="-334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4800"/>
                <a:tab algn="l" pos="792000"/>
                <a:tab algn="l" pos="1249200"/>
                <a:tab algn="l" pos="1706400"/>
                <a:tab algn="l" pos="2163600"/>
                <a:tab algn="l" pos="2620800"/>
                <a:tab algn="l" pos="3078000"/>
                <a:tab algn="l" pos="3535200"/>
                <a:tab algn="l" pos="3992400"/>
                <a:tab algn="l" pos="4449600"/>
                <a:tab algn="l" pos="4906800"/>
                <a:tab algn="l" pos="5364000"/>
                <a:tab algn="l" pos="5821200"/>
                <a:tab algn="l" pos="6278400"/>
                <a:tab algn="l" pos="6735600"/>
                <a:tab algn="l" pos="7192800"/>
                <a:tab algn="l" pos="7650000"/>
                <a:tab algn="l" pos="8107200"/>
                <a:tab algn="l" pos="8564400"/>
                <a:tab algn="l" pos="9021600"/>
                <a:tab algn="l" pos="94788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73" name="Group 3"/>
          <p:cNvGrpSpPr/>
          <p:nvPr/>
        </p:nvGrpSpPr>
        <p:grpSpPr>
          <a:xfrm>
            <a:off x="4389480" y="1279440"/>
            <a:ext cx="4371840" cy="4753080"/>
            <a:chOff x="4389480" y="1279440"/>
            <a:chExt cx="4371840" cy="4753080"/>
          </a:xfrm>
        </p:grpSpPr>
        <p:pic>
          <p:nvPicPr>
            <p:cNvPr id="274" name="Picture 4" descr=""/>
            <p:cNvPicPr/>
            <p:nvPr/>
          </p:nvPicPr>
          <p:blipFill>
            <a:blip r:embed="rId1"/>
            <a:stretch/>
          </p:blipFill>
          <p:spPr>
            <a:xfrm>
              <a:off x="4389480" y="1279440"/>
              <a:ext cx="4295880" cy="47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5"/>
            <p:cNvSpPr/>
            <p:nvPr/>
          </p:nvSpPr>
          <p:spPr>
            <a:xfrm>
              <a:off x="7010280" y="1484280"/>
              <a:ext cx="1293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y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8381880" y="2819520"/>
              <a:ext cx="379440" cy="23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Calibri"/>
                </a:rPr>
                <a:t>Minutes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5T21:33:56Z</dcterms:created>
  <dc:creator>+++</dc:creator>
  <dc:description/>
  <dc:language>en-US</dc:language>
  <cp:lastModifiedBy>Nada Miklja</cp:lastModifiedBy>
  <dcterms:modified xsi:type="dcterms:W3CDTF">2023-09-26T09:23:30Z</dcterms:modified>
  <cp:revision>940</cp:revision>
  <dc:subject/>
  <dc:title>PowerPoint-Präsentation</dc:title>
</cp:coreProperties>
</file>